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rd, I Believe 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rd, I Believe V-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rd, I Believe 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rd, I Believe V-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rd, I Believe 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rd, I Believe V-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主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我相信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Lord, I Believe Chor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1T16:14:23Z</dcterms:modified>
  <cp:revision>13</cp:revision>
  <dc:subject/>
  <dc:title>主,我相信 Lord, I Believe</dc:title>
</cp:coreProperties>
</file>