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C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C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V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無他為耶穌的寶血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hrist’s Precious Blood Alone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5:17Z</dcterms:modified>
  <cp:revision>18</cp:revision>
  <dc:subject/>
  <dc:title>無他為耶穌的寶血 Christ’s Precious Blood Alone</dc:title>
</cp:coreProperties>
</file>