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真配得讚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 Are Worthy Of Praise 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你真配得讚美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You Are Worthy Of Praise 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5:46Z</dcterms:modified>
  <cp:revision>36</cp:revision>
  <dc:subject/>
  <dc:title>你真配得讚美 You Are Worthy Of Praise</dc:title>
</cp:coreProperties>
</file>