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和華的軍隊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rmy Of The Lord 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和華的軍隊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rmy Of The Lord 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耶和華的軍隊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Army Of The Lord 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1T16:14:10Z</dcterms:modified>
  <cp:revision>44</cp:revision>
  <dc:subject/>
  <dc:title>耶和華的軍隊 Army Of The Lord</dc:title>
</cp:coreProperties>
</file>