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AFD7-9638-44F8-A77C-5A21E4771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6032-FB49-4775-A91D-B946877D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A24A6-92F6-46CB-88F5-D2092170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A350-9BC2-4E2C-82E7-2CBF4442D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287-BAEB-498E-B97B-A8FB22AF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F769-3201-4209-A4C8-628A1C3C4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0712-C7A8-4B20-B76F-ED93F140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46D9-72C1-44CB-8277-A7B669F6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D31A-0276-40B0-806B-F1E682E31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D6E-AF1B-41FF-A56C-1EEE5231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4633-0078-45DD-A544-CABDD482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11D4-2393-46C5-8839-32AE15A5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8433-2D3E-45B5-BE69-BE2006A31D6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pic>
        <p:nvPicPr>
          <p:cNvPr id="43" name="Picture 2" descr="E:\music\诗歌\PPT\2\我愿意\我欲等候耶和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E:\music\诗歌\PPT\2\我愿意\我欲等候耶和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E:\music\诗歌\PPT\2\我愿意\我欲等候耶和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我欲等候耶和华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E:\music\诗歌\PPT\2\我愿意\我欲等候耶和华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4:43:2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