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EF27-D840-4F21-AAA1-C1AA36CDD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20DB-C569-405C-9149-ABE44F7AD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6FB7-47CF-4BF7-B515-227347DED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FBFC-E9C4-4B2F-A5B5-85E7DFAF3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01C21-D6D9-4B98-B0F8-C0ECB4F0E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8214-5A33-4B03-AECF-D85D68692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AF722-7906-4C1A-94A2-5E5D6DED1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6FD5-4986-4948-B1BD-1C6DAD69B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4C42-338F-475B-814D-62C14CD4E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CD64-E962-41E4-A253-C3E10BF14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9FD5-1777-4629-B698-F6E27551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BE71-E73B-410F-BC78-51B265A7B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F39CB-6DC2-4547-A340-EECB02D9B6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耶稣爱我，我知影（台语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C:\Documents and Settings\Administrator\桌面\主啊,誰人親像祢\简体\3. 耶稣爱我,我知影(台语)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耶稣爱我，我知影（台语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C:\Documents and Settings\Administrator\桌面\主啊,誰人親像祢\简体\3. 耶稣爱我,我知影(台语)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耶稣爱我，我知影（台语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C:\Documents and Settings\Administrator\桌面\主啊,誰人親像祢\简体\3. 耶稣爱我,我知影(台语)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耶稣爱我，我知影（台语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C:\Documents and Settings\Administrator\桌面\主啊,誰人親像祢\简体\3. 耶稣爱我,我知影(台语)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6:46:1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