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9E7F-1E00-4758-87D8-5FBBEBA7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1D34-3088-49E6-9D5D-39388B4A4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DED2-5B64-434C-9E09-303C7260F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F175-911C-4F48-B114-90642130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DA42-433B-48B3-BBB4-441A848A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EDDB-77BF-4BBD-B438-20EB16271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9CAE-AB3B-46CE-9A4D-36B901ABF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E8EF-2089-49C2-A61C-17FEC1B61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4D37-1882-4D13-9594-D67ED7204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83C-D08F-49C8-987C-D00926CF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5AEA-A908-447B-A7F0-00EBF9AC9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261A-0B19-4688-9391-04F533A0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F003-8DC4-40BF-A1EB-71330CE227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1" descr="E:\music\诗歌\PPT\2\愿你的国降临\诗篇23篇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" descr="E:\music\诗歌\PPT\2\愿你的国降临\诗篇23篇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诗篇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23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篇（台语） 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1" descr="E:\music\诗歌\PPT\2\愿你的国降临\诗篇23篇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9T04:47:40Z</dcterms:created>
  <dc:creator>YYC</dc:creator>
  <dc:description/>
  <dc:language>en-US</dc:language>
  <cp:lastModifiedBy>微软用户</cp:lastModifiedBy>
  <dcterms:modified xsi:type="dcterms:W3CDTF">2010-06-13T15:25:42Z</dcterms:modified>
  <cp:revision>5</cp:revision>
  <dc:subject/>
  <dc:title>幻灯片 1</dc:title>
</cp:coreProperties>
</file>