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A172-C429-4500-97EC-57E49D1AD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A0D4-E0C9-41E0-B49D-4A7BDB671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34EB-A6A0-408F-ADFA-9E2F8A0B3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0AE5-92B7-405E-93A6-B2EE7D4FB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08AC-3A5C-483B-9B49-CFF208D08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8E58-C595-47CB-9AA3-62044147E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27B0-AFDB-4898-A4AE-D996228E3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3F18-AB94-427E-AACB-636EA1728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893FC-82F8-4324-9078-409EA9F90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3BAC-3503-4440-8A07-205C4EF5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2C89-FBAB-4BAB-9466-73EA7CC3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1291-52DA-476C-B71A-704F4CF9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5DBB9-3A5A-4CC8-A5A2-569B6F879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你的愛（台語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" descr="C:\Documents and Settings\Administrator\桌面\主啊,誰人親像祢\繁体\5. 祢的愛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你的愛（台語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" descr="C:\Documents and Settings\Administrator\桌面\主啊,誰人親像祢\繁体\5. 祢的愛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你的愛（台語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" descr="C:\Documents and Settings\Administrator\桌面\主啊,誰人親像祢\繁体\5. 祢的愛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你的愛（台語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" descr="C:\Documents and Settings\Administrator\桌面\主啊,誰人親像祢\繁体\5. 祢的愛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6:38:1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