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81686-5947-46FC-8D45-6C3CF21B4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A636A-E40E-4BE0-9E5E-93DA507F7E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93018-8460-4CC8-A79C-AD541E936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3B18C-1198-41D8-AAD6-660C87673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9736-94CC-41D1-A5BE-2A9E5153C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2148-EE74-407E-9C98-5ECBFD610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EE2E-3B38-465A-BE56-48D786DAC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2879-3B5F-4071-82D9-B240BA1FB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46EA-7F89-4AC4-A4C3-7F7A5B37F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9A1C-38E1-4A62-9029-DDFE771DC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B841-DF64-4752-8B28-2F527E795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5FEC-1083-46FF-9E1A-A68BCAAEE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A4E2-1AE9-4B88-9C77-3BBC99327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978C-4202-452D-8EBD-1343582C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15F3-1128-4A3B-91C1-9DE2C726D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95D8-0ED2-497D-B994-4143008D6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2A4A8-3A2E-4F14-B31E-59D1E155C4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僅此一生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This One Life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C:\Documents and Settings\Administrator\桌面\再次将我更新\繁体中英PPT\僅此一生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僅此一生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This One Life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C:\Documents and Settings\Administrator\桌面\再次将我更新\繁体中英PPT\僅此一生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僅此一生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This One Life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:\Documents and Settings\Administrator\桌面\再次将我更新\繁体中英PPT\僅此一生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endy</cp:lastModifiedBy>
  <dcterms:modified xsi:type="dcterms:W3CDTF">2010-06-15T06:07:21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