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657D-540D-416D-9DE8-5197F272E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A9FE-0A1C-4AB6-851E-B8B8D0E10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A7D7-B6F6-453C-9F95-65DF343E0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A0E3-3985-4862-A5AB-1D47C5083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D112-7BC6-4F79-B5A8-50EDBFB86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2E7D-70C1-4E5C-9F23-5AC77E4A6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39EC-51A9-4E76-8744-FA8E3E161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6A3-571A-49BC-9E81-DDD77E88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C24-58F3-4E8D-ABC1-84675272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45A-92DE-4CA0-9F5E-BC95E235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1F9-9CC8-4F2A-B5AE-B8C3BA24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A70-EC87-45FF-B92E-841722C8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BC2-A6C0-4072-B90C-F2011690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AA8-F7FB-4DF9-B100-824CCFEF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728-A6D9-4C22-8B35-108AE19D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1F3-531D-4DAE-8ECE-881CEAFF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3E0-2B75-48B9-9D37-C23B5E6D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8E8-D376-473B-BE36-2D92688F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07B-5527-462F-B5EC-89480C42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74D8-D925-48DB-BF53-C398AB34A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為我留一個位子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Documents and Settings\Administrator\桌面\再次将我更新\繁体中英PPT\為我留一個位子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Administrator\桌面\再次将我更新\繁体中英PPT\為我留一個位子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Documents and Settings\Administrator\桌面\再次将我更新\繁体中英PPT\為我留一個位子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Documents and Settings\Administrator\桌面\再次将我更新\繁体中英PPT\為我留一個位子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C:\Documents and Settings\Administrator\桌面\再次将我更新\繁体中英PPT\為我留一個位子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4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