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015E-8D48-4BE7-84A5-D2410C4A4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850E-E55D-4FCC-914E-E73FF0B33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3F65-236C-4996-A88C-487404708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54A1-531E-4DB3-8A87-BAB01182A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5B3D-5334-4E19-AB94-16ED979F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E461-D2DB-4D2D-815E-11CE6D1E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3178-8152-4B5F-BFE6-B5AEA6108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89AF-1AFC-4872-9E28-6B59AF5C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8B7B-86A0-4BC8-900D-58FAE4D0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C96F-C831-4F5B-A80B-552D1E9D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1663-E63A-4A36-850E-B2EE8883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8084-2668-4084-8CAC-5CA1B9B8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D4C7-5ADB-4AB5-AB24-B5906820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1C0E-1658-4A10-9D17-7962CB30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CD10-1BFB-4786-9F5C-2E8D807E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45EC-0E5A-454B-A8F9-44F41B2D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7879-8D30-4AAE-AB42-B4925B509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獻上一生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In This One Life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Documents and Settings\Administrator\桌面\再次将我更新\繁体中英PPT\獻上一生 (粵語)\獻上一生 (粵語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獻上一生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In This One Life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C:\Documents and Settings\Administrator\桌面\再次将我更新\繁体中英PPT\獻上一生 (粵語)\獻上一生 (粵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獻上一生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In This One Life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istrator\桌面\再次将我更新\繁体中英PPT\獻上一生 (粵語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0:4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