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CD5C-A69F-4977-ACA3-608911C71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8858-DF7E-4273-B039-861DB95A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6201-2940-441B-A9F5-481E9354E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C549-7321-4D5E-AEA5-0D5F9EA23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3A82-721D-4337-9452-E711231C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29F0-A108-4420-BB18-898D661D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93FA-E1AF-4D1B-9292-8F122F5B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D03D-91AB-4773-9219-10D3AB1D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5B10-4D57-4AEC-B548-505EFB8E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F522-4467-45FF-8421-DAEB9398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53DA-86F5-4840-B655-B543EAD1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1395-E32B-4DD7-8902-A3860971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E0578A22-22CA-4E26-A28B-210E4B7E89D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3240" y="692640"/>
            <a:ext cx="9143640" cy="17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1000" spc="-1" strike="noStrike">
                <a:solidFill>
                  <a:srgbClr val="000000"/>
                </a:solidFill>
                <a:latin typeface="DFKai-SB"/>
                <a:ea typeface="DFKai-SB"/>
              </a:rPr>
              <a:t>亙古的愛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0" y="2201400"/>
            <a:ext cx="9146880" cy="30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3716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林婉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CCLI#719164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4"/>
          <p:cNvSpPr/>
          <p:nvPr/>
        </p:nvSpPr>
        <p:spPr>
          <a:xfrm>
            <a:off x="0" y="5419800"/>
            <a:ext cx="91436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5"/>
          <p:cNvSpPr/>
          <p:nvPr/>
        </p:nvSpPr>
        <p:spPr>
          <a:xfrm>
            <a:off x="366480" y="6550560"/>
            <a:ext cx="3047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0" y="5334120"/>
            <a:ext cx="9143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宋体"/>
              </a:rPr>
              <a:t>中文歌詞中的「他」汎指人類，包括了亞當和夏娃，男人和女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1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/7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4"/>
          <p:cNvSpPr/>
          <p:nvPr/>
        </p:nvSpPr>
        <p:spPr>
          <a:xfrm>
            <a:off x="-45000" y="972360"/>
            <a:ext cx="9211680" cy="40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許久以前祂有個夢想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為自己造了一個新娘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將他安置浩瀚的宇宙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美麗的地球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20" y="6382440"/>
            <a:ext cx="913788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4"/>
          <p:cNvSpPr/>
          <p:nvPr/>
        </p:nvSpPr>
        <p:spPr>
          <a:xfrm>
            <a:off x="720" y="940320"/>
            <a:ext cx="9153000" cy="40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天起涼風晨昏或日落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他倆同行在伊甸園中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直到有天他聽信讒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天人永隔絕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/7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4"/>
          <p:cNvSpPr/>
          <p:nvPr/>
        </p:nvSpPr>
        <p:spPr>
          <a:xfrm>
            <a:off x="0" y="189360"/>
            <a:ext cx="9143640" cy="55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噢 但祂心深愛著他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怎能就此遺忘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祂日夜思念的新娘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祂說我要下到他那裡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用血換他生命 用水將他洗淨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他必永遠歸我為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橋段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/7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4"/>
          <p:cNvSpPr/>
          <p:nvPr/>
        </p:nvSpPr>
        <p:spPr>
          <a:xfrm>
            <a:off x="0" y="981000"/>
            <a:ext cx="9143640" cy="47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如此的愛將石心融化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痛悔的心再次屬於祂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靈魂甦醒他甘心樂意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跟隨祂到底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/7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4"/>
          <p:cNvSpPr/>
          <p:nvPr/>
        </p:nvSpPr>
        <p:spPr>
          <a:xfrm>
            <a:off x="-45000" y="981000"/>
            <a:ext cx="9188640" cy="47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再過不久 號角要響起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榮耀新郎 要駕雲降臨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祂要接他回到父家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永不再分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5/7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4"/>
          <p:cNvSpPr/>
          <p:nvPr/>
        </p:nvSpPr>
        <p:spPr>
          <a:xfrm>
            <a:off x="720" y="189360"/>
            <a:ext cx="9142920" cy="56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噢 因祂心深愛著他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不能就此遺忘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祂日夜思念的新娘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祂說我要下到他那裡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用血換他生命 用水將他洗淨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他必永遠歸我為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橋段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6/7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4"/>
          <p:cNvSpPr/>
          <p:nvPr/>
        </p:nvSpPr>
        <p:spPr>
          <a:xfrm>
            <a:off x="-17640" y="981000"/>
            <a:ext cx="9187920" cy="47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在那美麗的新天新地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再無死亡 也沒有哭泣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羔羊和新婦從此快樂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永遠在一起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5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7/7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  <Words>447</Words>
  <Paragraphs>10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0:51Z</dcterms:modified>
  <cp:revision>12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8</vt:r8>
  </property>
</Properties>
</file>