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B895-C8E7-4929-8762-D74E17B3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DA20-78CF-4FA6-B76A-E29DF5BA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362-A7E1-463E-AB6D-ED10E1CE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F1E2-06FC-42F2-AB99-9B16E228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E8E1-1F64-4387-9506-AA1E8404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A601-F74A-4B97-B6C7-2C3EEF5B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7A7A-9AB8-458E-B5D1-79CD3887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4C21-1FB0-4DE7-8189-B9CA99A6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1E5B-1A1D-4977-8AED-310ACEF4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D08C-0DB9-4817-B984-ED0E1B2D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877-4E76-43D3-89C7-F05A890C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33C0-1C19-450F-A69C-3F99A151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8404223-40A3-451C-A969-6F9CCBEDEF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0" y="908640"/>
            <a:ext cx="914364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DFKai-SB"/>
                <a:ea typeface="DFKai-SB"/>
              </a:rPr>
              <a:t>全心全意敬拜祢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0" y="2611080"/>
            <a:ext cx="85881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藍寶石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副标题 3074"/>
          <p:cNvSpPr/>
          <p:nvPr/>
        </p:nvSpPr>
        <p:spPr>
          <a:xfrm>
            <a:off x="3240" y="6382440"/>
            <a:ext cx="914040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6264360" y="6413040"/>
            <a:ext cx="2879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全心全意敬拜祢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-1440" y="188640"/>
            <a:ext cx="914544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創造宇宙萬物的神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按祂形象造男造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賜福他們權柄治理這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生命氣息從祢而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疆界年日為祢所定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萬物受造彰顯榮耀祢的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副标题 3074"/>
          <p:cNvSpPr/>
          <p:nvPr/>
        </p:nvSpPr>
        <p:spPr>
          <a:xfrm>
            <a:off x="3240" y="6382440"/>
            <a:ext cx="914040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9144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來為要順服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來為要榮耀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活著為要敬拜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活著為要遵行祢旨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6264360" y="6413040"/>
            <a:ext cx="2879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全心全意敬拜祢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前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853000"/>
            <a:ext cx="914364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240" y="6382440"/>
            <a:ext cx="914040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6264360" y="6411600"/>
            <a:ext cx="2879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全心全意敬拜祢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3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4"/>
          <p:cNvSpPr/>
          <p:nvPr/>
        </p:nvSpPr>
        <p:spPr>
          <a:xfrm>
            <a:off x="0" y="908640"/>
            <a:ext cx="914364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是阿拉法 俄梅戛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稱頌祢名不止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統管全地永恆的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全心全意敬拜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  <Words>197</Words>
  <Paragraphs>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1:14Z</dcterms:modified>
  <cp:revision>11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4</vt:r8>
  </property>
</Properties>
</file>