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A5C-8139-4B7F-9F68-E1C55591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0D3-7631-40F9-8C42-2B4AAFB5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575-3329-4D3E-8140-C54EEDA4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895-8E05-4DCE-B4FB-1554B196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5DA-80D9-461D-A65F-640C474B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2F8-B4E4-4490-8ECA-2E80094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46B-BB1B-4E14-83B8-A4F2DFE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32E-277E-4EAA-B232-1DE22833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625-1235-48FA-B21E-E342B9FE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2F1-0291-41F2-B3E6-0A07554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9ED-23B7-421C-AC60-AFF5335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B5C-E230-4F62-B915-859CA26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F7559E7-26C7-49EC-AD4D-60B9BEF41B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" y="2493000"/>
            <a:ext cx="9150120" cy="2662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27360" y="908640"/>
            <a:ext cx="91047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5640" y="2467080"/>
            <a:ext cx="914292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14400"/>
            <a:ext cx="914364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14400"/>
            <a:ext cx="91436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81000"/>
            <a:ext cx="9143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"/>
          <p:cNvSpPr/>
          <p:nvPr/>
        </p:nvSpPr>
        <p:spPr>
          <a:xfrm>
            <a:off x="0" y="9144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舒拉密女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  <Words>35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22Z</dcterms:modified>
  <cp:revision>14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