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5D6-C6AB-4EF9-B3B6-1892CA8C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682B-DC95-4DD0-9E17-FF6AC65B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3AB-CD3B-450C-8A6F-40E22BD4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4ABC-AFC1-417E-AC2D-98C6F49D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695-1085-4162-8776-D6ADE580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0741-6E1F-4F65-AAD9-A0497159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6F5-B79F-46D8-A4AD-3241C271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219A-7B3D-48C4-AB46-30416439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C4D-BEB5-42DF-984E-3C22F2EA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A8C-1F28-420E-BC9C-E5CDBF3F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E494-20E4-483F-A9CA-1905E422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E764-3F81-4163-B0ED-43515D15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1FA70D3-8D18-4C9B-8422-C505A7CBAA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548640"/>
            <a:ext cx="914364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DFKai-SB"/>
                <a:ea typeface="DFKai-SB"/>
              </a:rPr>
              <a:t>寶座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277000"/>
            <a:ext cx="914364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188640"/>
            <a:ext cx="914364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天上有個榮耀的寶座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其上坐著亙古常在者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威嚴 尊貴 公義 慈愛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天使天軍侍立寶座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聽祂命令 遵行祂旨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俯伏敬拜 晝夜不停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"/>
          <p:cNvSpPr/>
          <p:nvPr/>
        </p:nvSpPr>
        <p:spPr>
          <a:xfrm>
            <a:off x="7615080" y="6382440"/>
            <a:ext cx="15285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137844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聖哉 聖哉 聖哉 聖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聖哉 聖哉 聖哉 聖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7615080" y="6382440"/>
            <a:ext cx="15285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188640"/>
            <a:ext cx="9143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聖所的幔子已經裂開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帶著羔羊寶血近前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稱謝讚美 直到永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基督藏在神的裡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坐在高天瞻仰祂容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聆聽主心 傳祂旨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7615080" y="6382440"/>
            <a:ext cx="15285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7615080" y="6382440"/>
            <a:ext cx="15285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0" y="452880"/>
            <a:ext cx="914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興起啊 君尊的祭司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興起啊 聖潔的國度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萬邦宣揚祂的榮美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向萬代傳揚祂的作為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0" y="6382440"/>
            <a:ext cx="20804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  <Words>238</Words>
  <Paragraphs>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20:14Z</dcterms:modified>
  <cp:revision>10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