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F84-C096-4734-ADBD-F109194D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241-54ED-43FD-8BF2-505880E8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D42-7657-47D8-96E9-36C13BE8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EB1-9597-4942-9132-0E5D4A79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4F7-27D6-4D07-85D1-330DB270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717-4F9C-4536-B2C3-3FA9A1E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AC0-14D7-4214-BA88-2BC0B1D5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D43-890A-45DF-83F5-20384F50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3D8-221A-41F1-A0AB-1850E3B4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811-0C71-49B2-B0FF-AD723789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6CC-C450-4886-A3CF-93BF8A92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BD4-6015-4207-9B59-7E408C1B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11B282A-E36E-449C-940B-F85624A748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90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DFKai-SB"/>
                <a:ea typeface="DFKai-SB"/>
              </a:rPr>
              <a:t>新郎的呼喚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 啊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~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35640" y="548640"/>
            <a:ext cx="91850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願意 主 我願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同去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在哪裏 願我也在那裏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分離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  <Words>230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