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5D1-0DBB-4CC8-878B-CEC8C09E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D4D-CA58-44D2-AF55-5D83B87D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A8F-5A68-4AB1-8C50-74F0BAA0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392-9C81-492E-8072-5C0D0B27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AD7-3BDD-439A-9ABE-558DB8B1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645-6509-46DF-8459-20780F72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D28-87AA-4171-90ED-17BC9ACA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254-B252-4754-9227-F324E4A7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1ECC-A9AE-4249-B8E3-1AC9FBB5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90C-A7CD-4C42-A05F-3104FEED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44D-5BED-4F74-BBBA-695C993A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F7B-616F-4084-9E05-1B5E651C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5B00606-258B-40A7-A298-9CBF57304D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5040" y="908640"/>
            <a:ext cx="9148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720" y="2611080"/>
            <a:ext cx="91245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0" y="981000"/>
            <a:ext cx="91436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心單單屬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981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心單單愛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0" y="6381000"/>
            <a:ext cx="160488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將我銘刻掌心永遠不忘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遠不離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昔在 今在 永在的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愛我一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81000"/>
            <a:ext cx="160488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170</Words>
  <Paragraphs>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59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