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117-AE59-48FE-A155-5DAE1212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0C0-705E-4FBD-BC13-9D222B79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5F0-13B2-4DA2-8170-A85DD347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989-A8FE-4849-BD21-0279CD1B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256-C97F-434F-B8B1-EFCB790D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D79-F5DE-44F9-A9FD-32B4E2DB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992-4532-4CED-8C16-43DCCEA6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3E7-2A7D-4646-82D0-0B86FDB4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EFB-3824-4E33-AE91-2E31AC79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FE3-42A3-483C-BA0F-02C9DB2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E1B-646A-490F-9CAF-D9002061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C9E-F591-4F8D-B1B5-E24DD4C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F1A922F-EC90-4B6E-B3E2-19E952889D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13320" y="477000"/>
            <a:ext cx="91479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385720"/>
            <a:ext cx="91436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720" y="2061360"/>
            <a:ext cx="9171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ETERNAL LO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0" y="577224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3" name="文本框 4"/>
          <p:cNvSpPr/>
          <p:nvPr/>
        </p:nvSpPr>
        <p:spPr>
          <a:xfrm>
            <a:off x="0" y="477000"/>
            <a:ext cx="913356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ee, the new earth and heaven are her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Gone is all death, and gone are all tear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e Lamb and bride, together at las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Eternally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9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0" y="748080"/>
            <a:ext cx="918288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Long in the past, it came to God's mi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at He'd create a virtuous brid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make a world on which she would thriv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In paradise.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720" y="405000"/>
            <a:ext cx="915120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ow He'd enjoy the cool of the day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When He would walk that beautiful pl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With His true love! -- till she bought a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at tore her awa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838080"/>
            <a:ext cx="9143640" cy="53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Oh, in His heart He loved her so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just forge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abandon His brid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16760" y="6382440"/>
            <a:ext cx="2126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8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0" y="405000"/>
            <a:ext cx="915372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o He said, "To My cherished one I'll g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blood I'll redeem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水將他洗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water wash cle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y beloved and she will be Mine."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477000"/>
            <a:ext cx="914364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is act of love performed for her sak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elted her heart; her soul was awak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Freed from her guilt, and brimming with jo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is hand she would tak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0" y="477000"/>
            <a:ext cx="914364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before long, the trumpet shall soun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Calling the bride, caught up in the cloud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Bringing her home, to where she belong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e Father's hous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9360" y="838080"/>
            <a:ext cx="913428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Oh, in His heart He loved her so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just forge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abandon His brid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7016760" y="6382440"/>
            <a:ext cx="2126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8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0" y="405000"/>
            <a:ext cx="915372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o He said, "To My cherished one I'll g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blood I'll redeem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水將他洗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water wash cle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y beloved and she will be Mine."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  <Words>762</Words>
  <Paragraphs>1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1:37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10</vt:r8>
  </property>
</Properties>
</file>