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588-F057-4819-A83B-DD21B3B7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4A7-3FB0-4C99-8ACC-D9BBC44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852-DF32-4C22-8F9A-BD72C045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A88-00DE-4C95-A13F-ABDC71C4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A88-ACA0-41E7-9DAE-02B42CA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CF0-9EBE-49C4-B572-C3EAAC7D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7E8-303F-4A71-BC73-B062F0BF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CB4-CFAB-4A31-B5BD-201142E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5EE-74BA-4747-976B-A4D78E5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070-67C5-4973-9325-8F00DD2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EE5-BC14-42E7-9DB6-B1F7389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7D0-B948-4CE2-909E-8CECCE7D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2A8EC60-CD43-4031-A845-6112045F2D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81952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10080" y="908640"/>
            <a:ext cx="9153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3141360"/>
            <a:ext cx="9143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藍寶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0" y="2277000"/>
            <a:ext cx="9143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GLADLY I WILL SING YOUR PRA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264360" y="641160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創造宇宙萬物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established all creation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按祂形象造男造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Formed us as its culmination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賜福他們權柄治理這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n You granted us the right to rule i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0" y="765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生命氣息從祢而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But we live through Your sustaining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疆界年日為祢所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Bounds and times are Your ordaining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萬物受造彰顯榮耀祢的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have made all things to glorify Your n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0" y="458640"/>
            <a:ext cx="91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順服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 am here, Lord, to ob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榮耀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 am here to glorify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敬拜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I live to give You prais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遵行祢旨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unto Your will submit my lif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0" y="405000"/>
            <a:ext cx="914364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阿拉法 俄梅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are Alpha, Omega,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稱頌祢名不止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 will ever sing Your prais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統管全地永恆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O Creator and Ruler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ladly I will sing Your prai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33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56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