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E0C-E581-4836-913D-1EA727EE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7A8-25F2-4117-AEEE-980DCA3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DEC-5BCB-4F87-A923-F4CA07DC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363-2044-43F7-9BC7-D6811F27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C1D-12CA-4970-A971-E6C79A3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C6F-7933-4BFD-91C9-659A46C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FB2-25D2-408F-A98E-08CB1B6D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F89-990D-4580-8C57-00F0AA85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C32-40FE-41A3-B369-B67685B1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136-7B89-434C-A67A-FC519D0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74-884A-4B42-9EB2-C4307CB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331-C685-41A2-92F8-F5221BB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0AF000-4796-48C8-9042-E9C25279A9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47700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493000"/>
            <a:ext cx="91436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0" y="213300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LL STILL BELIE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3808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Eternal, pure and holy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who can claim to know His ways?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172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838080"/>
            <a:ext cx="91436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533520"/>
            <a:ext cx="9143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Even faced with death, I'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For I know He can deliver me,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but should He not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Unto His name all glory b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I wi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838080"/>
            <a:ext cx="9143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Creator and Sustainer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can prevail against His way? Oh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0" y="838080"/>
            <a:ext cx="914364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0" y="380880"/>
            <a:ext cx="91436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od alone is strong to sav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steadfast love is s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e's the same in every ag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faithfulness endure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69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2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