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CAC-2895-490A-9C3E-8A59F697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F63-29DF-47FC-8478-24BA9DB9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533-8F05-46A9-B8F5-3589A50C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B05-D12E-4B8E-9174-8F7FF65F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C67-9A49-4348-BBEF-190FEEAB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239-3EA0-4801-9CD3-BD24FBC9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5CA-0413-476F-A9E9-986124BF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3CA-20C8-4570-AC1D-E8052751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5A0-8266-45B8-AABC-281738AE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150-308E-4BB5-88C7-8B97942C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0A0-7B28-4694-B910-E93E85E7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DBE-D559-490D-9600-B9C9B40A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0F64A43-140B-4F45-B908-C2D71608ED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9360" y="548640"/>
            <a:ext cx="91486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SOUND THE C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720" y="2133000"/>
            <a:ext cx="91429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360" y="6419160"/>
            <a:ext cx="9134280" cy="3520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7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685800"/>
            <a:ext cx="9143640" cy="52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諾亞的日子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n the days of Noa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人們照常吃喝嫁娶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icked men were making mer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洪水把他們都冲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ill the flood ca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brought judgment to them all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685800"/>
            <a:ext cx="914364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約拿的日子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n the days of Jonah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人們分不清對和錯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Man could not tell right from wrong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聽見神僕人的呼籲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ill they heeded Your holy servant's call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"/>
          <p:cNvSpPr/>
          <p:nvPr/>
        </p:nvSpPr>
        <p:spPr>
          <a:xfrm>
            <a:off x="0" y="60948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沒有人傳</a:t>
            </a:r>
            <a:r>
              <a:rPr b="0" lang="en-US" sz="5300" spc="-1" strike="noStrike">
                <a:solidFill>
                  <a:srgbClr val="000000"/>
                </a:solidFill>
                <a:latin typeface="DFKai-SB"/>
                <a:ea typeface="DFKai-SB"/>
              </a:rPr>
              <a:t> 怎能聽見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will hear You with no preach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沒有聽見 怎能相信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will know You with no teach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怎能求告主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will call on Your nam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6013440" y="6413040"/>
            <a:ext cx="31302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6013440" y="6413040"/>
            <a:ext cx="31302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4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457200"/>
            <a:ext cx="9143640" cy="57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, anoint me! Make use of m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Calling back the dead unto lif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, anoint me! Make use of m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Send me in to sound the cry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5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"/>
          <p:cNvSpPr/>
          <p:nvPr/>
        </p:nvSpPr>
        <p:spPr>
          <a:xfrm>
            <a:off x="0" y="609480"/>
            <a:ext cx="914364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時候將到 現在就是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Soon will come a time,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the time is com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死人要聽見神兒子的聲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en the dead shall hear the voice of th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Son of G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就要活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have new lif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  <Words>404</Words>
  <Paragraphs>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3:17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6</vt:r8>
  </property>
</Properties>
</file>