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6E4-E226-4E15-98C1-9400800A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E25-11DD-4D3F-BD0A-9B43D784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180-5B3E-4C55-AF39-A2F4B331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DAC-146D-4BB4-9623-B82D6B5D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66B-90CA-4063-85E8-77C59DAB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3E8-BC26-419B-9554-9ACF30CA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FB6-523C-4BF3-8740-AC033AC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916-4C1D-4BBD-81F9-A018D331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B92-A00F-4CEB-A1B5-B9487F1B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3B2-23A7-4C54-8DD7-C50299C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90D-A767-401C-B9E7-45606A6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405-B878-4EF4-8B84-AAA68BC7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DBA2B0C-3DF7-4F26-B98C-FAD30BF684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548640"/>
            <a:ext cx="9149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712600"/>
            <a:ext cx="91443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5640" y="2205360"/>
            <a:ext cx="91245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MY HEART CALLS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720" y="261000"/>
            <a:ext cx="914436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you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261000"/>
            <a:ext cx="914364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I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152280"/>
            <a:ext cx="9143640" cy="60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45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 I've beheld your handsome f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your skin like ivory and g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You have healed my changing he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Now it beats as one with you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7007400" y="6381000"/>
            <a:ext cx="21362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152280"/>
            <a:ext cx="914364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Has my heart been set afi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it's forged a love to end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 can rest my wandering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O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my glorious beautiful groo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-5040" y="405000"/>
            <a:ext cx="91486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-7560" y="981000"/>
            <a:ext cx="91504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舒拉密女你回來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, my bride, O Shulamite, my brid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! 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6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  <Words>582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3:42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