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CE7-3FD3-4083-860F-432E5215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137-7F6F-496F-8A5D-19799EFE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4EB-C09D-4442-8349-F1872D72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86E-B361-48B2-915E-65623A96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F97-9F2B-447A-8991-64118DCF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2C4-4A0B-440E-AA3E-A76A92DD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E3C-8E46-4FC6-8680-53CB7082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0E1-D227-4790-905B-337BD051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3C6-35D8-4F51-8220-AEA3CAC5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34F-0AF2-4B7A-B225-20663F14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9D5-5F56-4C28-930C-32D489B6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649-687F-4043-BD51-B9B37888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35040B6-C8C4-4254-A0A4-3404BA1B10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837000"/>
            <a:ext cx="91436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基督在我裏面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CHRIST LIVING IN 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3157200"/>
            <a:ext cx="914364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621000"/>
            <a:ext cx="9143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的氣息吹入我的身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have breathed the breath of life inside 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基督的生命在我裏面成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r Spirit dwells within, transforming my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潔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And by faith, You've purified me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稱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es, by faith, You've justified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5486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基督裏我得釋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To my sins, I'm captive no mor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使我脫離罪惡捆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For the pow'r of Christ sets me fre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如今活著不再是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It's no longer I who liv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乃是基督在我裏面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But it is Christ, living in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477000"/>
            <a:ext cx="91436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榮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Shining out Your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如明光照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r glorious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慈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Living out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這個時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r bountiful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276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20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