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5FF-C619-453B-A369-48474338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A34-8C13-4768-AD80-D4007B8F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908-0D0E-4C0D-A052-37B36254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138-F562-4F29-9AA0-9541D227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305-5DE5-405F-B581-1E686F4E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104-D4AB-42DD-A4E0-4D787C95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4DD-70F1-4811-AFF5-85509FA5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FBE-EC2A-42E8-B7D3-06B67603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042-2499-4938-A1BF-907B7716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41A-C13D-4C3E-B3D0-74FFB878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2EC-2F71-4D8C-BBC7-87573AFA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134-D9FC-4603-8BA3-CC5D9DD0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C93135A-B820-4720-BB02-8CD3A8A336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188640"/>
            <a:ext cx="91436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DFKai-SB"/>
                <a:ea typeface="DFKai-SB"/>
              </a:rPr>
              <a:t>寶座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853000"/>
            <a:ext cx="9143640" cy="27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0" y="2105640"/>
            <a:ext cx="91429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The</a:t>
            </a:r>
            <a:r>
              <a:rPr b="1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Thro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477000"/>
            <a:ext cx="9143640" cy="51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天上有個榮耀的寶座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n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the heav'nly realm there is a thron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其上坐著亙古常在者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On it sits the Ancient of Day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威嚴 尊貴 公義 慈愛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wesome, mighty, flowing with grac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548640"/>
            <a:ext cx="9143640" cy="55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天使天軍侍立寶座前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And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 a host of angels at His thron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聽祂命令 遵行祂旨意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Carry out His will and sing Him praise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俯伏敬拜 晝夜不停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Humbly serving through night and day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47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聖哉 聖哉 聖哉 聖哉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oly, holy, holy, hol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聖哉 聖哉 聖哉 聖哉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oly,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holy, holy, hol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405000"/>
            <a:ext cx="914364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聖所的幔子已經裂開 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Now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the temple veil in two has spli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帶著羔羊寶血近前來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the blood of Christ for all has flowed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稱謝讚美 直到永遠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Glory, honor, worship and prais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0" y="47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與基督藏在神的裡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Now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my life with Christ in God is hid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ungsuhChe"/>
                <a:ea typeface="GungsuhChe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坐在高天瞻仰祂容顏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my God in heaven I'll behold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聆聽主心 傳祂旨意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Know His goodness, tell of His ways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4"/>
          <p:cNvSpPr/>
          <p:nvPr/>
        </p:nvSpPr>
        <p:spPr>
          <a:xfrm>
            <a:off x="0" y="205200"/>
            <a:ext cx="913032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興起啊 君尊的祭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GungsuhChe"/>
              </a:rPr>
              <a:t>Rise up, a nation of our God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興起啊 聖潔的國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GungsuhChe"/>
              </a:rPr>
              <a:t>Rise up, a priesthood of our King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萬邦宣揚祂的榮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GungsuhChe"/>
              </a:rPr>
              <a:t>Forever His mighty deeds proclai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向萬代傳揚祂的作為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GungsuhChe"/>
              </a:rPr>
              <a:t>Declaring the the glory of His name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  <Words>432</Words>
  <Paragraphs>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6:08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Notes">
    <vt:r8>1</vt:r8>
  </property>
  <property fmtid="{D5CDD505-2E9C-101B-9397-08002B2CF9AE}" pid="5" name="PresentationFormat">
    <vt:lpwstr>On-screen Show (4:3)</vt:lpwstr>
  </property>
  <property fmtid="{D5CDD505-2E9C-101B-9397-08002B2CF9AE}" pid="6" name="Slides">
    <vt:r8>7</vt:r8>
  </property>
</Properties>
</file>