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<Relationship Id="rId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23-04-14T17:02:48.816000000" idx="1">
    <p:pos x="5758" y="36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A94-6C4C-4978-9998-AF63220E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B94-5372-4DD1-A310-894362BE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6E1-FB94-4CD5-9068-C99414DF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70D-464B-43AB-ABA6-DC3EE3DC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94A-EDD4-44B3-AEE5-36DF5D3B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1AD-8960-4ADC-9482-B5F732D8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BDC-9677-41FA-B27B-3F65B14B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3BE-A7B0-453A-8FA9-26A72E2C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16C-7B9B-49B2-B5CE-BDF493AB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96B-7D83-4559-814D-BB2E06AC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98B-2A72-4EFD-A85C-295E8132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406-7408-4F76-9AEE-89419A7D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D511722-BF60-4AD3-A175-3932BC7A09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DFKai-SB"/>
                <a:ea typeface="DFKai-SB"/>
              </a:rPr>
              <a:t>新郎的呼喚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65840"/>
            <a:ext cx="914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0" y="2061360"/>
            <a:ext cx="9139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DFKai-SB"/>
                <a:ea typeface="DFKai-SB"/>
              </a:rPr>
              <a:t>SONG OF THE BRIDEGROOM (JOIN M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405000"/>
            <a:ext cx="9142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我一同坐在天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Join Me; let us rule the heav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我行走在水面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Join Me; let us walk o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我形影不離 心心相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Join Me; lover dearest, one in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Let us be one. Perfectly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405000"/>
            <a:ext cx="9142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一同坐在天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ith You, I can rule the heav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行走在水面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ith You, I can walk o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形影不離 心心相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ith You, lover dearest, one in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e shall be one. Perfectly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-22320" y="332640"/>
            <a:ext cx="9134280" cy="59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 啊</a:t>
            </a:r>
            <a:r>
              <a:rPr b="0" lang="en-US" sz="5100" spc="-1" strike="noStrike">
                <a:solidFill>
                  <a:srgbClr val="000000"/>
                </a:solidFill>
                <a:latin typeface="DFKai-SB"/>
                <a:ea typeface="DFKai-SB"/>
              </a:rPr>
              <a:t>~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and me, You and m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, aa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and me, You and 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一同坐在天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e shall rule the heave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行走在水面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e shall walk o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0" y="405000"/>
            <a:ext cx="9142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我願意 主 我願意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and me, Lord, You and m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同去 永不分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alking with You endless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祢在哪裏 願我也在那裏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(2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here You may go, I will follow Your lea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GungsuhChe"/>
              </a:rPr>
              <a:t> (2X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永不分離 永不分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Endlessly, endless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  <Words>374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5:54Z</dcterms:modified>
  <cp:revision>17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