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4B7F-B059-471E-ABEB-BFD114DC7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E8BB-0EB4-4940-BE40-C5E4A6E2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1410-3D91-421F-B5A3-2AB756C1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BEAA-2624-4E6D-A406-F6B17ED14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FDC6-FF6F-4A29-9393-6A5D6B44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9934-0D68-423F-92D4-FB5AF46F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A00D-CA09-4F72-8843-D552AA09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992A-4ACB-4DB5-BE3F-B048866A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F297-4958-4D2C-95AE-B5B4C12C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F584-D675-400A-BC04-E2E6567E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68B1-E419-4A38-86F4-A0F1F75C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9EEB-B0E4-4395-BA74-799FE703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92DB4F5-BF40-487B-A5A8-517CBEA9BC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0" y="548640"/>
            <a:ext cx="914292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-720" y="2277000"/>
            <a:ext cx="9143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35640" y="2061360"/>
            <a:ext cx="914292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DFKai-SB"/>
                <a:ea typeface="DFKai-SB"/>
              </a:rPr>
              <a:t>I'M NOT ALO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副标题 307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3"/>
          <p:cNvSpPr/>
          <p:nvPr/>
        </p:nvSpPr>
        <p:spPr>
          <a:xfrm>
            <a:off x="6971760" y="6402240"/>
            <a:ext cx="21625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0" y="692640"/>
            <a:ext cx="914364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勝過千萬人同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Though few the friends on this way I choose to go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我能勇敢走窄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You give me strength to seek out the narrow road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開我眼睛 看見祢就在這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Help me to see that You're traveling with me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我靈穩妥 因祢與我同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With You I'm safe; with You I'm not alon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副标题 307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3"/>
          <p:cNvSpPr/>
          <p:nvPr/>
        </p:nvSpPr>
        <p:spPr>
          <a:xfrm>
            <a:off x="6971760" y="6402240"/>
            <a:ext cx="21625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692640"/>
            <a:ext cx="9143640" cy="52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勝過千萬人同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Though few the friends on this way I choose to go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我能勇敢走窄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You give me strength to seek out the narrow road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將愛完全 讓我心一無畏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My love complete, help me cast aside my fear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我靈穩妥 因祢與我同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With You I'm safe; with You I'm not alon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副标题 307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60" name="文本框 3"/>
          <p:cNvSpPr/>
          <p:nvPr/>
        </p:nvSpPr>
        <p:spPr>
          <a:xfrm>
            <a:off x="6950160" y="6382440"/>
            <a:ext cx="24343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4"/>
          <p:cNvSpPr/>
          <p:nvPr/>
        </p:nvSpPr>
        <p:spPr>
          <a:xfrm>
            <a:off x="0" y="692640"/>
            <a:ext cx="9143640" cy="57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每當我轉向祢 祢已在這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Lord, when I turn to You, You have turned to m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每當我親近祢 祢就與我親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GungsuhChe"/>
              </a:rPr>
              <a:t>When I draw close to You, Already You've drawn cl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我尚未求告 祢已應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When my pray'rs are but thoughts, You've answered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使我喜樂滿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In You my joy o'erflows!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"/>
          <p:cNvSpPr/>
          <p:nvPr/>
        </p:nvSpPr>
        <p:spPr>
          <a:xfrm>
            <a:off x="6971760" y="6402240"/>
            <a:ext cx="21625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4"/>
          <p:cNvSpPr/>
          <p:nvPr/>
        </p:nvSpPr>
        <p:spPr>
          <a:xfrm>
            <a:off x="0" y="765000"/>
            <a:ext cx="9143640" cy="53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勝過千萬人同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Though few the friends on this way I choose to go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我能勇敢走窄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You give me strength to seek out the narrow road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愛既完全 將一切懼怕除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My love's complete, and my heart is free of fear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我靈穩妥 因祢與我同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With You I'm safe; with You I'm not alon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副标题 307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  <Words>444</Words>
  <Paragraphs>7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5:17Z</dcterms:modified>
  <cp:revision>13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5</vt:r8>
  </property>
</Properties>
</file>