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C3E-BE86-4EF0-A88E-6A3A2BE5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D2F-1F89-47B0-A86B-AB974D8A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699-15E0-4422-8282-53AA8940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25A-9A3B-4864-AF4B-8AC1FFA5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DFC-D96E-442C-BC83-7C43E873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8A5-02BB-46CA-84A1-A3F51647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CAC-A5BA-4011-B809-EEFBA8C5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E18-D77F-4A99-9D48-996763A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FBF-6A27-4B1B-AE8A-1A7DDB4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351-37A1-44C6-97CB-B509383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339-456B-4E3F-9D60-7E18118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EA4-35D5-44A5-83C7-DFCCE20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9B2D67B-9F27-48AD-8DF3-FCDED3571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24120" y="692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9360" y="2781360"/>
            <a:ext cx="91245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24120" y="1989000"/>
            <a:ext cx="912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EAGER SHE A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304920"/>
            <a:ext cx="914364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Eager, she awaits her gr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Sweet anointed with perfum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n her dress with golden plaits, she now wa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ike a fig tree soon to bl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332640"/>
            <a:ext cx="9143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Virgins' lamps at midnight bu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his coming all now yea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"Lo, he comes!" now cries a voice. All rejoic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t long last the groom returns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200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59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