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D70-E7F8-4EA0-8CD6-3515394E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B61-DD9E-4985-8B53-F7CB5F6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7FC-5495-4E2A-B456-797C5CE8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8B4-BA13-4797-947C-72FCB857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A83-0914-43D8-B414-D02B28E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3A4-65D1-4B45-9FED-ED3F912E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E58-DE8F-428B-BFA5-7D1CEC7E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A0E-FC26-4354-B75C-B8B43E8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943-CC33-4B04-A3C2-A30B848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661-BF6E-4BE4-AFC1-E77A2B1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714-0E50-4034-9C22-B021066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01F-431E-463B-8279-9767F59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07A6BB-F2F8-43F6-9283-31F8FD83EB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51120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35640" y="281124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36360" y="1917000"/>
            <a:ext cx="91429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YOU'RE THE ONE FOR 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762120"/>
            <a:ext cx="914364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屬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762120"/>
            <a:ext cx="914364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愛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332640"/>
            <a:ext cx="9143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've engraved me on Your palm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ge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sake 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 unchanging through every ag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'll love You eterna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271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43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