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C29D-F428-4E1D-8833-904E369F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25BC-F872-4D80-91A3-CB356EE2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2648-BD9D-4243-907D-F5B1A2F1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1E83-E716-46E7-A011-7729298B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6665-D180-40BC-8BA7-ABC58B5C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9836-343C-46FC-8CCF-CC9F2063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1D06-BDF2-449E-A9D2-A897444B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7BE2-6601-425C-B344-6A37E9B2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40D6-0766-4CE0-B5B6-C1860DBA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9F8C-B583-4833-9338-5F931BBC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BCE4-0D97-4A28-A78F-B402A3BB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EF2-D8F3-4FD5-9C3D-C3B08AFA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64C1-1E0D-4C79-B619-BE9E7638B5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are my favorite 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You Are My Favorite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are my favortie 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You Are My Favorite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1:02Z</dcterms:modified>
  <cp:revision>4</cp:revision>
  <dc:subject/>
  <dc:title>幻灯片 1</dc:title>
</cp:coreProperties>
</file>