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FE07-C61B-4B80-88E7-680DD97C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43B-9EEC-4476-A553-EA5747EE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DC1-E2F8-4EEF-AA97-8D004E52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0F4-C1D3-4A5E-B0A8-6B3D05E2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7A30-721D-41BC-BEF3-7A08DAD9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341D-5DE7-4B21-A73A-84D268E3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36A9-7A97-44EF-89B7-FC89AFC1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68C0-1F42-420F-B6E1-330481DC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777-321A-414A-876B-EF7F778B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1C61-0EC0-42F7-A752-131CFE48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D6C1-A24A-4A1C-A28A-33805EBD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5BE-B890-419C-A629-3C49F852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6EB9-2F85-426C-8567-7116F09946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耶稣，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主耶稣，我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耶稣，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主耶稣，我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耶稣，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主耶稣，我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耶稣，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主耶稣，我爱你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4:57:53Z</dcterms:modified>
  <cp:revision>4</cp:revision>
  <dc:subject/>
  <dc:title>幻灯片 1</dc:title>
</cp:coreProperties>
</file>