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AE4-890D-4543-9CA5-EFEB36F3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44A-8874-4972-8718-FD2B648A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FE7-2E1A-43F8-A53E-43A9DF3C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8EC-A1BD-4117-83DB-CF0C5ABA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3A8-AE21-4EC0-93DA-0FF961A4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E36-7919-484A-8007-635C39B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658-FA0F-4318-8DEA-CFE744C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778-89FB-404F-8461-9D1DD264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926-EDF5-43EE-B484-C75AEE99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1D8-3DEC-4DEC-B8E4-58EE8B0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B3B-5255-44F3-95E3-A34E0A0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03D-DC7D-418C-A842-C3505185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FEE9-2503-4638-8D2B-FD3F5AC253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们来赞美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们来赞美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们来赞美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我们来赞美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4:33Z</dcterms:modified>
  <cp:revision>4</cp:revision>
  <dc:subject/>
  <dc:title>幻灯片 1</dc:title>
</cp:coreProperties>
</file>