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379-F7E8-42D3-B6F9-CAE2B4D4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AAD-C038-47B4-85F7-97BA3FD6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710-765B-4D36-B608-BBB53AF8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7BF-5715-41D4-9480-249035FA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9DF-D0A4-4B2F-ACEE-26689B3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319-ABD4-4762-8E59-84DAD52A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66B-A81D-411D-8DA6-B93243A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B05-4A8D-4A8C-94F7-60FA2CB7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477-4EC0-40A4-931C-4F446F0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351-A700-4C79-95A3-67F6C39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6A4-7C4A-45B1-BF40-B95BCD0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BA1-F1FD-43DA-A8C2-ECE9EC31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BE2-FD5D-46E6-8490-2F07D26F0D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最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最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最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8:18Z</dcterms:modified>
  <cp:revision>4</cp:revision>
  <dc:subject/>
  <dc:title>幻灯片 1</dc:title>
</cp:coreProperties>
</file>