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0CD04-0AD9-4A19-9408-0535703CE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46E2D-A4C5-4345-91D8-4DD01AC98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2A30F-A5C7-4FF1-BAA1-F5DAA9639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D57C5-9203-48EB-8449-18C9B78B4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EFC71-2C2D-4C8D-A7C1-7EED6FF78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43BDC-E345-4D05-839F-2741B9387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99231-7919-4B9B-85FF-8D8324AC3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EAAEC-3ABF-46ED-BE9D-255287A56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2ADA5-9D33-4078-B58B-B5C7D08AF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53DDE-B844-4F59-9DA4-94AF25915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CB9DC-CCC3-4A00-A5F4-106FF4734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51396-48BD-4F9C-8462-3BD5D7C51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8834F-3CCD-4C06-AB7A-4756FB34055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把握今天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1/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1" descr="E:\music\诗歌\PPT\2\永远\把握今天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把握今天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/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1" descr="E:\music\诗歌\PPT\2\永远\把握今天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9T04:47:40Z</dcterms:created>
  <dc:creator>YYC</dc:creator>
  <dc:description/>
  <dc:language>en-US</dc:language>
  <cp:lastModifiedBy>微软用户</cp:lastModifiedBy>
  <dcterms:modified xsi:type="dcterms:W3CDTF">2010-06-13T14:53:36Z</dcterms:modified>
  <cp:revision>4</cp:revision>
  <dc:subject/>
  <dc:title>幻灯片 1</dc:title>
</cp:coreProperties>
</file>