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846-928F-42DC-895E-54B5AF17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4F5-BE5B-48CC-B915-3100CC8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EEB-0F56-4520-BEF7-F3AC56DD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A5F-6B9E-4F5F-9932-0ADD4AC4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EE5-0CC8-4D30-9E00-9FD8A03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5A1-5ACF-4AB0-94D0-B217CB3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8B9-F7AC-4F53-818E-F51D4544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D21-C54F-43C1-9CAC-E1B278DF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2AB-4752-4941-9929-25EE7A1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203-60B8-4518-BEAE-A7035F2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F79-B2D1-43B6-9D4B-DA06D7A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516-C064-4F52-8667-CA71387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0C6-DCA3-45BD-A6F2-3413A15BDA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荣耀都归神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荣耀都归神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0:19Z</dcterms:modified>
  <cp:revision>5</cp:revision>
  <dc:subject/>
  <dc:title>幻灯片 1</dc:title>
</cp:coreProperties>
</file>