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EE3D-B89B-4C7F-8082-C3011844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3B56-B10C-433B-AD5B-2AC9FF1F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9594-8A06-4F86-BE10-7E3E65E2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8D67-85B7-4DF5-AB52-D720C4AF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6508-C1AC-4297-BDD8-A03361D1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62C9-97A9-4C87-92AF-2C1FA52C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7A53-BB02-494E-8401-156042D0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20FB-0145-400A-80B8-8417C2F0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D75E-9DA2-4FFE-B1C0-9385951B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3388-8D38-4E0D-875D-001BF54A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0FDE-CA55-47F8-9653-EA15D73E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600F-A07A-4364-9EA2-F8F59F1C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CEF1-ECE9-4668-A723-0D2521163C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永远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E:\music\诗歌\PPT\2\永远\永远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永远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永远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永远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永远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永远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永远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1:37Z</dcterms:modified>
  <cp:revision>5</cp:revision>
  <dc:subject/>
  <dc:title>幻灯片 1</dc:title>
</cp:coreProperties>
</file>