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D3D-1E9D-4B5F-865C-4DBE3E6F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54E-A2CD-4259-92B2-571979BA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CFD-22FF-490E-8A40-B3FABC37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C33-DBB2-481E-87A2-D3309B8F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183-A1EB-4B65-B3B1-A5D9E897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D33-1F88-4DA6-887B-69AA4392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EE7-A27D-4D1C-B1BD-525E795E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6C2-954B-42B6-A964-87BE3F53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BE5-9472-4AE2-845A-26C3B39B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D75-BDF5-4131-962F-115303B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8CC-2F51-4FFD-A53B-1F412F25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788-A0B5-43F5-B7B4-90EE83B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D29A-7A1B-40D7-9779-C854CDE55F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片刻的安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片刻的安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片刻的安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片刻的安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56Z</dcterms:modified>
  <cp:revision>4</cp:revision>
  <dc:subject/>
  <dc:title>幻灯片 1</dc:title>
</cp:coreProperties>
</file>