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E2E-5EED-4C10-8D07-84E8B821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78B-228B-41FA-89CC-B6B89D99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0B95-FE6C-4B36-B95F-4DA3253F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CBD6-4A2D-42BD-BEC0-FA58A543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B546-22A4-463E-96B1-71D4B1FB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F11-2308-4F74-A1B1-6F72D7B8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BE0-B1D2-496D-99B0-3BC332C6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3A5-A2F2-4342-A033-81A81546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3080-8903-4BB4-A93A-B26B50C8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BD76-5B3D-473B-9456-EC92E481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DD5-5AFD-42A5-B522-9DCF4118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0A4-4DED-4338-B008-73E15F62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8DE0-C431-40AF-A1C7-695F3764CF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你比这一切更美丽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你比这一切更美丽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你比这一切更美丽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你比这一切更美丽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5:18Z</dcterms:modified>
  <cp:revision>4</cp:revision>
  <dc:subject/>
  <dc:title>幻灯片 1</dc:title>
</cp:coreProperties>
</file>