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6D9-B2E5-4A24-818F-684CE47D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93F-D6F5-46CF-824E-2AB1CE96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6231-2B17-4450-9113-B1DE4BB2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BBE-04E7-487A-B644-DE86A815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2A7-C924-400A-939D-218403C1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BFB-10BD-4F51-BFCD-682BE6A4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E4D-7168-4C76-A071-C4526730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883-8AB5-4BB6-AF13-F7BD0302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F93-F2AD-4A09-885E-8C3DF9F6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E1C-EC54-41B0-ADF4-96470648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852-EEFC-4946-89A9-2588DB5A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FB2-2D5E-4CF9-B580-2A41B59B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3ED7-A2A1-493B-B44D-08B1B77634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荣耀彰显于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你的荣耀彰显于天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荣耀彰显于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你的荣耀彰显于天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荣耀彰显于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你的荣耀彰显于天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3:11Z</dcterms:modified>
  <cp:revision>4</cp:revision>
  <dc:subject/>
  <dc:title>幻灯片 1</dc:title>
</cp:coreProperties>
</file>