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A097-D0B4-404D-B183-F56DD1DB5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8921-B1E1-4D03-A0DD-303EEF09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7943-E20C-4A7C-8B5B-5E8E0728B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3A0C-34C1-4DA4-AC31-40A52B7B8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6B56-5570-4365-ACA8-58B056F8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8BF0-1B8B-4BC9-9174-320894A8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1218-7ABC-4371-8FE7-FB4F3E68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78DA-3D76-4053-9B5F-517BCF46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6100-8833-49EA-AE2E-EBE41D8B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BE7A-26B6-42B8-8FFF-B42918F7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64DD-79F0-4E2D-9E5A-18048AFA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4829-EA3B-40FF-A4C7-52CB92A4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B50D-6004-4DE0-A628-5D0E2FC7EF1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谢谢你，耶稣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谢谢你，耶稣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谢谢你，耶稣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谢谢你，耶稣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谢谢你，耶稣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谢谢你，耶稣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谢谢你，耶稣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永远\谢谢你，耶稣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4:54:16Z</dcterms:modified>
  <cp:revision>4</cp:revision>
  <dc:subject/>
  <dc:title>幻灯片 1</dc:title>
</cp:coreProperties>
</file>