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ACD4-5B22-4638-9BF1-A8A301E21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4AF5-A55E-4555-880A-10292887E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611D-7B64-46C8-AE8D-03CDD19FC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347B-36E1-4803-87E1-39C2B9B01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5B10-0625-4B47-A573-2C1FF8016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1101-7C84-48C8-9121-06E2923AD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2B63-D2A5-4032-8CFB-50D692A1C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EC0C-F31D-47F0-81D6-477DC8E4B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0C15-83FF-4FCF-9C9B-F773B68A6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5A13-0D41-493C-8D52-44FCE20E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314B-506D-413B-B012-0930CE2C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8890-B896-4858-9D26-4E56F40C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8A0DC-DE00-444C-83E3-835A7DC621C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进入你的圣所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永远\进入你的圣所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进入你的圣所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永远\进入你的圣所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进入你的圣所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永远\进入你的圣所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02:33Z</dcterms:modified>
  <cp:revision>5</cp:revision>
  <dc:subject/>
  <dc:title>幻灯片 1</dc:title>
</cp:coreProperties>
</file>