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8DF3-C652-4900-9BAD-FE69FE2DE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1D27E-C329-4A40-80DE-EA2097DB7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5121E-8F7D-4FA4-8C17-B66080AA4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Are My Favorite  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favorite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Are My Favorite  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favorit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51:37Z</dcterms:modified>
  <cp:revision>31</cp:revision>
  <dc:subject/>
  <dc:title>You Are My Favorite</dc:title>
</cp:coreProperties>
</file>