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0AA1-3879-4E47-B975-158311E4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FE89-F08F-44EF-B4D4-DAA8D306A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C8D3-99BC-487F-B6DF-E9C8B7FBE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0EB1-C961-4C29-B716-A6257B2F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5Z</dcterms:modified>
  <cp:revision>59</cp:revision>
  <dc:subject/>
  <dc:title>主耶穌, 我愛你</dc:title>
</cp:coreProperties>
</file>