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8311-0B01-43FB-A0D3-D44EA9E15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4D0A-4C81-49B8-B8CD-CDBB874FD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3213-F19C-4DC8-A862-12DCE80FF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7690-18A1-4A0D-B584-B796F9026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F72D-A1F3-49F4-BC93-AECE3E22C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_itstim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itstim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itstim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_itstim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21Z</dcterms:modified>
  <cp:revision>62</cp:revision>
  <dc:subject/>
  <dc:title>我們來讚美主</dc:title>
</cp:coreProperties>
</file>