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47D-B517-4E96-98E8-6D4E66BF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5D5C-71E8-4468-AA3E-1AB3F937D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FE1C-0574-45B9-91DC-A761B392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109-B65F-471B-BD7F-9AE7F082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0Z</dcterms:modified>
  <cp:revision>56</cp:revision>
  <dc:subject/>
  <dc:title>我的救主</dc:title>
</cp:coreProperties>
</file>