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26CC-F7D9-4473-B2C3-464610D8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129A-CCEF-44DB-B9FF-8B0877FE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049-F421-4541-B2BA-A9B9602F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440E-3AF9-493D-9373-9B6F19714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9Z</dcterms:modified>
  <cp:revision>52</cp:revision>
  <dc:subject/>
  <dc:title>我的最愛</dc:title>
</cp:coreProperties>
</file>