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7E99-56B1-465F-9BE1-FCAD331CA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1C8C-E33F-4BF8-A155-7359A7638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A167-D900-41EC-8975-ED2E9C91F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40Z</dcterms:modified>
  <cp:revision>42</cp:revision>
  <dc:subject/>
  <dc:title>把握今天</dc:title>
</cp:coreProperties>
</file>