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8B70-65DE-46D9-9497-133BBF72E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D8A7-41D0-425F-9C3E-3A393399C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1E82-7D0C-4674-9F28-D0846B316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榮耀都歸神羔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m_glor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榮耀都歸神羔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m_glor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33Z</dcterms:modified>
  <cp:revision>38</cp:revision>
  <dc:subject/>
  <dc:title>榮耀都歸神羔羊</dc:title>
</cp:coreProperties>
</file>