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F7B7-8084-4D48-A07B-88435B76C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8C68-6889-4F18-8AE2-FE768948C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D2C6-38C3-46BC-8995-CD5ECC656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EEF7-02D8-44C5-B450-0BEC797F7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9D50-B11F-4CD8-BC0F-D6DC9D540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_eternit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eternit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eternit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_eternity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59Z</dcterms:modified>
  <cp:revision>27</cp:revision>
  <dc:subject/>
  <dc:title>永遠</dc:title>
</cp:coreProperties>
</file>