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D390-E48A-4079-BCF5-487C86CE9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A314-0193-45CA-A23A-8C57DDD3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B0E7-0955-4168-A171-A883FD21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D779-702C-4096-B220-6708F494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5304-E3B9-4B96-A64B-A4FB50D99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03Z</dcterms:modified>
  <cp:revision>35</cp:revision>
  <dc:subject/>
  <dc:title>你比這一切更美麗</dc:title>
</cp:coreProperties>
</file>