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611B-4131-423A-AA51-BB7F0E09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4D7-DE66-4005-9AFA-56A180CD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E23-D5C0-4BC9-86B8-ED0C2EE6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6273-847A-4BFD-9EED-6BCCA642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3Z</dcterms:modified>
  <cp:revision>71</cp:revision>
  <dc:subject/>
  <dc:title>祢的榮耀彰顯於天</dc:title>
</cp:coreProperties>
</file>